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94750"/>
        <c:axId val="54839354"/>
      </c:barChart>
      <c:catAx>
        <c:axId val="51594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39354"/>
        <c:crosses val="autoZero"/>
        <c:auto val="1"/>
        <c:lblAlgn val="ctr"/>
        <c:lblOffset val="100"/>
        <c:noMultiLvlLbl val="0"/>
      </c:catAx>
      <c:valAx>
        <c:axId val="54839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94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99D-1BD4-4C13-BFE6-C4F3B79B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FEC-F310-428A-A8B0-4FB3B57E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FF7-5D78-4D02-ABF1-7B15E572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A8D-603F-41F8-A69A-FA39A88D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578-0B07-467B-A6DF-B29464CC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D7D-B019-4CB5-BFDD-75868350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050-AB20-4C85-8BF1-100DB9EE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0B3-56FE-40C5-827D-4B51368F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217-7E29-4571-ABDA-4202D8BC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7E3-EA87-4C27-BE78-60851782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FCE-4A8C-431C-84DC-5F2E4B8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00F-FFB5-4D58-B8B4-DCFC479F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0E880-5612-48A3-95A2-65B10591F2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