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54415"/>
        <c:axId val="58365397"/>
      </c:barChart>
      <c:catAx>
        <c:axId val="10054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65397"/>
        <c:crosses val="autoZero"/>
        <c:auto val="1"/>
        <c:lblAlgn val="ctr"/>
        <c:lblOffset val="100"/>
        <c:noMultiLvlLbl val="0"/>
      </c:catAx>
      <c:valAx>
        <c:axId val="583653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54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AB2F-448C-4551-8F72-E8F7CA50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DF5-8D6E-490D-A13D-CA2A1D45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33BB-CA13-4F8C-90BA-41E866DD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EFB-9A84-4D30-9057-CC930E98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A2B9-FE15-452F-9854-CD725EAC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15D0-D3E9-4D3D-A1EF-8552DF9D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13E3-BE88-4FBD-877C-45E5D4C3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B0E-7A13-4333-8F1A-F7BDF6F3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645-5ADF-44B9-B651-3EFBD9A2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237-79E0-47B7-BAD8-45A4FB12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639-8290-4CE5-81E9-339ABE59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3363-20E6-4949-95D7-76BCB61C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D1ED6-C1D6-40C8-A406-7EEFB4483D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