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549311"/>
        <c:axId val="31700271"/>
      </c:barChart>
      <c:catAx>
        <c:axId val="405493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00271"/>
        <c:crosses val="autoZero"/>
        <c:auto val="1"/>
        <c:lblAlgn val="ctr"/>
        <c:lblOffset val="100"/>
        <c:noMultiLvlLbl val="0"/>
      </c:catAx>
      <c:valAx>
        <c:axId val="31700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493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018-5D45-416A-AF23-BEBFBEA1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7A4-C148-4D35-8637-9B0470C6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88A-5E30-4C57-B417-B264FABA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47D-586D-4E15-864C-655A8A97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672-7FDD-435D-A723-90516FDA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9A9-BFDE-4835-A16C-8E6EE461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46E6-432B-4DA3-B313-5A9D23FF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B74-1C5B-40B6-BC17-D46C161E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E17-A41B-4263-875C-610A123B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0BE4-B519-4AB1-A637-F39492FA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822-F71D-42E5-B56C-F3C6ABB7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8BE-9D3F-47DE-B1E7-B69575D9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00097-BC3F-47DB-B6B5-DD90180B32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