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02409"/>
        <c:axId val="35418745"/>
      </c:barChart>
      <c:catAx>
        <c:axId val="61402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18745"/>
        <c:crosses val="autoZero"/>
        <c:auto val="1"/>
        <c:lblAlgn val="ctr"/>
        <c:lblOffset val="100"/>
        <c:noMultiLvlLbl val="0"/>
      </c:catAx>
      <c:valAx>
        <c:axId val="35418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02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22C-6675-4CF9-BA67-AD94A386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853-A39E-4BA1-9A02-487FB19E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F95-D99C-434F-A262-F3BF6B9A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0EB-D083-4537-8445-7CEB4A3A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33D-3379-4A0D-90BC-4FF15677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D40-5371-4E59-9BB6-17E836C9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0E4-878B-4540-88F7-9B572F6F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CB5-4061-46D7-BD36-C8795633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EA9-C349-4170-82C0-3D57C552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E49-8E84-4FB3-A63C-10BBB446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1FD-E933-436A-8042-C465115B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8D0-F35A-4EA4-A223-F663FB46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B7F6E-4969-4F01-BF3B-D4AB29215A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