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11958"/>
        <c:axId val="16845058"/>
      </c:barChart>
      <c:catAx>
        <c:axId val="93311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45058"/>
        <c:crosses val="autoZero"/>
        <c:auto val="1"/>
        <c:lblAlgn val="ctr"/>
        <c:lblOffset val="100"/>
        <c:noMultiLvlLbl val="0"/>
      </c:catAx>
      <c:valAx>
        <c:axId val="168450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11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F9E-29EB-46B8-B4F8-1D40953F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9C63-4845-4939-9993-818014BB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C57-BD6D-448C-ABF3-53B43F3F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107-D531-4664-BBB9-DF9E884C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17B-4431-4062-ABB0-BF7B4B3D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405-0411-4775-94B8-82E18C50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00D-A115-4038-AD8F-BA9D0BF7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12E-8A74-4721-8A0A-FADA14EF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7093-6F28-4ACA-A67E-A542AECB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4D7-2413-4783-AC2D-429F337C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64C-040D-429D-B823-F47AC001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F1F-809A-486A-84AF-CF4962E1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FDDE4-356D-4D0F-ACE8-DB99C1C587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