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72195"/>
        <c:axId val="87608467"/>
      </c:barChart>
      <c:catAx>
        <c:axId val="95772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8467"/>
        <c:crosses val="autoZero"/>
        <c:auto val="1"/>
        <c:lblAlgn val="ctr"/>
        <c:lblOffset val="100"/>
        <c:noMultiLvlLbl val="0"/>
      </c:catAx>
      <c:valAx>
        <c:axId val="87608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2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7F3-36FA-4C44-AE2C-0A252A83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28E-C552-4570-A427-40C89069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345-A43F-458A-B73F-A5592934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33C-D836-4C8D-945B-557EF409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E1A-BF8C-4384-AEFE-189DAD1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901-9316-4D2C-AC1A-D1525B0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299-8330-4842-8B01-F01E6DF0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554-E611-4203-8F6F-AD29715B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BF1-5407-459E-A167-F2B91D8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026-1EF1-4993-9563-1239257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41A-725C-482E-9A27-3A3B94D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993-BEA6-476F-9F59-5CC26B6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637E3-E6B2-4436-9F5F-A5BA6BC188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