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59167"/>
        <c:axId val="11758556"/>
      </c:barChart>
      <c:catAx>
        <c:axId val="17459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58556"/>
        <c:crosses val="autoZero"/>
        <c:auto val="1"/>
        <c:lblAlgn val="ctr"/>
        <c:lblOffset val="100"/>
        <c:noMultiLvlLbl val="0"/>
      </c:catAx>
      <c:valAx>
        <c:axId val="11758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59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FAD-BF47-40CC-B349-8F206A86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3C1-078E-43BF-94B5-5D28205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D1B-424D-44CB-9E27-2B45039C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10A-24A9-40CD-A7CE-734B1D00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7CF-80EA-4D6F-9859-6287662A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E39-3D0C-4219-8591-1ED4940D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209-3BE7-4F6F-A915-5265F939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F38-9D6C-46D6-86BB-0AF7D929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61B-24BF-467B-AA2C-BEB24798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E71-F775-4E34-8FD3-3AFE0AB6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B36-5B46-49C7-87D5-0FAF7343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627-05DE-4C0B-A3E6-41C750E5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49385-A035-41D4-9928-25278CCCF4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