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09440"/>
        <c:axId val="79681503"/>
      </c:barChart>
      <c:catAx>
        <c:axId val="76909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81503"/>
        <c:crosses val="autoZero"/>
        <c:auto val="1"/>
        <c:lblAlgn val="ctr"/>
        <c:lblOffset val="100"/>
        <c:noMultiLvlLbl val="0"/>
      </c:catAx>
      <c:valAx>
        <c:axId val="79681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09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440-1BEA-4545-9DE9-614BC7DC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419-1E35-4344-AA85-BA3130E2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BB2-3877-4EEE-86F4-95B85A68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C7F-ABC7-4A1D-8407-038DF156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A4A-6DE8-413D-BC00-2FC5816E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E79-A367-431D-9F1C-9933C9A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CB9-16E3-4D4C-9174-4BDB5082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E11-9D85-4530-8F54-0CC5A787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745-9885-41F0-AF4A-15D55F80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B76-8F64-4623-8E9D-C7BE326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132-1250-494F-AD9F-9DC4CC76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BFC-B126-4CF3-9DCA-D53168D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A8D4F-601F-4EF8-A728-D35A8C3EC1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