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36445"/>
        <c:axId val="91840766"/>
      </c:barChart>
      <c:catAx>
        <c:axId val="34136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0766"/>
        <c:crosses val="autoZero"/>
        <c:auto val="1"/>
        <c:lblAlgn val="ctr"/>
        <c:lblOffset val="100"/>
        <c:noMultiLvlLbl val="0"/>
      </c:catAx>
      <c:valAx>
        <c:axId val="91840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6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9B6-FD24-4871-8AA5-7A9E824A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450-7974-42BA-9C69-0F45974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9F9-F315-42C6-8ECF-32F8EF64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9BD-1E6C-4D05-883A-1D48DE59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0DF-4A4F-4C21-B768-B0ACB6F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C4A-4661-4088-874D-CFB80B05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84F-9A75-40E8-91BE-E57D3AF3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FCE-8FAB-4EC5-A239-52FA02D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1B5-C4AC-4E3B-BA88-2FDB0D9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0DB-A364-4046-9207-10114B6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EC1-6DE5-4C0D-8862-B88256C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AEF-B7C6-4B09-A0A5-E6A6ECC6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CD5A8-91BD-467F-AF2F-54F5111DFF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