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8759032"/>
        <c:axId val="86349866"/>
      </c:barChart>
      <c:catAx>
        <c:axId val="4875903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6349866"/>
        <c:crosses val="autoZero"/>
        <c:auto val="1"/>
        <c:lblAlgn val="ctr"/>
        <c:lblOffset val="100"/>
        <c:noMultiLvlLbl val="0"/>
      </c:catAx>
      <c:valAx>
        <c:axId val="8634986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875903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34953-9E65-440D-869B-D0A53C653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F9BEC-5D8D-4BCD-A50E-9FAC2EF6D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02381-D67E-44A0-8EAE-7B9D79D78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E9F99-E84D-4989-83B9-1558A6676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A1146-8CF2-4267-9901-C7B8DB992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ADCB7-C5C9-4FDC-A7AC-845F830C5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BC0D4-D23B-4E69-B3D6-5176AD1AC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ACC14-AFA0-414C-A3EB-4F2886C71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1F1E3-F513-4F96-8C0D-16A6F3E8E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B4646-0FDE-4F77-BDEC-16B0670AA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C4BC4-1518-48F1-B150-90783ECB6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E6A13-C9CF-4C3D-AC94-B048839AE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2EFBF0-1F0F-4A38-8767-E74229F3CE3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