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50261"/>
        <c:axId val="58014281"/>
      </c:barChart>
      <c:catAx>
        <c:axId val="73750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14281"/>
        <c:crosses val="autoZero"/>
        <c:auto val="1"/>
        <c:lblAlgn val="ctr"/>
        <c:lblOffset val="100"/>
        <c:noMultiLvlLbl val="0"/>
      </c:catAx>
      <c:valAx>
        <c:axId val="58014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50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4C2-9210-486A-B960-48E82409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FC1-874D-44CA-B554-DE7666B7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E3E-9A99-427B-98C6-CF279EC8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016-F8DC-4EDE-9886-730EFABB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B941-E618-48CB-A258-CF1EE2CE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F9E-F7CC-4BF5-B247-9109EDBE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E84-D01A-4E44-AF54-90314274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590-CC25-4B58-90F7-4611C88E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D19-9441-4271-980F-395054A7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C6B-B679-438D-B165-2FC61BCD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F30-21DC-447F-89AD-22B657BE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178-7B32-48A4-A7B6-3A1E8781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93A7E-1A17-48AF-903D-F5A2075F63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