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05599"/>
        <c:axId val="44260523"/>
      </c:barChart>
      <c:catAx>
        <c:axId val="83705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60523"/>
        <c:crosses val="autoZero"/>
        <c:auto val="1"/>
        <c:lblAlgn val="ctr"/>
        <c:lblOffset val="100"/>
        <c:noMultiLvlLbl val="0"/>
      </c:catAx>
      <c:valAx>
        <c:axId val="44260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05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419-5032-4942-B99A-E30E7F5E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32E-0F3B-4D69-9C2C-E44AA766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8FA-C942-4917-9DAD-0D8D3567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DC9-F17B-4C3B-83DA-7AFFF77F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29C-FBD9-4895-ACD3-AD79EDC5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EF0-F6D3-411F-AF3E-D0A4ABEF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8ED-890B-4F87-8B34-B512DCCA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ACD-5053-4D42-90F2-51893563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E8F-A7FF-4390-9BD1-60F4CEF0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24B-89D4-452B-B809-1593AD21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14D-AC9A-43A2-A8EC-B7068A6C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97D-DDED-4B91-95FA-77C9D686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B6188-1F8D-4B34-9985-B0E34EF935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