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58448"/>
        <c:axId val="47977517"/>
      </c:barChart>
      <c:catAx>
        <c:axId val="24658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77517"/>
        <c:crosses val="autoZero"/>
        <c:auto val="1"/>
        <c:lblAlgn val="ctr"/>
        <c:lblOffset val="100"/>
        <c:noMultiLvlLbl val="0"/>
      </c:catAx>
      <c:valAx>
        <c:axId val="47977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58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74F-BB06-45EF-8890-5987BDE3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728-E08A-4A9D-B4DE-4CAD399A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3E2-23A8-4F1D-B377-E89A0A0F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8BD-8D03-4EFA-8424-42D25FFF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BA2-C6C6-4964-A7F2-59DC6699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F9C-6D38-4CCB-83D8-0DB0B1F0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99A-4FDC-47D7-A3E7-5B063737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84D-A3A5-4D57-BD84-7BF9A0F0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8AF-0B42-41A2-BC8A-4B53E56F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090-FFB2-4DAD-B7EC-EA876889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04E-CF93-4F67-A881-4F34F63C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DDF-429E-43E7-8F91-EBDF6A48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4D514-BDC5-4BA1-A61B-9279EF4B63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