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2166651"/>
        <c:axId val="91305644"/>
      </c:barChart>
      <c:catAx>
        <c:axId val="9216665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305644"/>
        <c:crosses val="autoZero"/>
        <c:auto val="1"/>
        <c:lblAlgn val="ctr"/>
        <c:lblOffset val="100"/>
        <c:noMultiLvlLbl val="0"/>
      </c:catAx>
      <c:valAx>
        <c:axId val="9130564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16665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FB7A0-35BC-46ED-A257-FBF4CE53C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26C8D-BBA9-47C2-AF64-C95741945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A061E-9C85-4B82-8E0A-1C34F76D1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65FB3-8559-4F4F-9A6D-51A1B7978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C5E7B-273C-4A3C-A1B1-3A8546D29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B29BE-373D-4A52-B4AB-750A0B48B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8D4BF-0C64-4E12-AA30-C9C32A3C9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1A5B7-9296-41D0-88A4-2181D5DD0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D1A9A-7B7A-447F-913B-007DE0E23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4D4F3-7CD9-4378-BD57-9E1242725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F0E8C-B041-46D4-A663-BC509B4E2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14EE8-9C90-4ED0-B107-8EB95EC54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580860-66DA-427A-8F26-A9F6AF90493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