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72206"/>
        <c:axId val="23413036"/>
      </c:barChart>
      <c:catAx>
        <c:axId val="77272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13036"/>
        <c:crosses val="autoZero"/>
        <c:auto val="1"/>
        <c:lblAlgn val="ctr"/>
        <c:lblOffset val="100"/>
        <c:noMultiLvlLbl val="0"/>
      </c:catAx>
      <c:valAx>
        <c:axId val="23413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72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E98-A518-4076-A051-622F2EEF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974-7FE5-46A7-A1E9-50371FE0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0E0-543A-49E1-8B59-638C118E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A61-5B03-4D7B-B467-7E9DE5F3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F46-49B9-4ADC-A3AE-D50CE25E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BB9-F7CB-4FF8-9DA6-758DB22D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CA0-DB58-4CEA-827D-5D1D8A50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839-5CA4-4D77-B2ED-3E8C3679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E0A-EEAA-44B6-BF30-F0A4B163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2EB-291D-48AE-9039-B8A4D53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8B2-019C-460A-9B05-1FB6FE01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1D8-DF36-4055-A16F-91C2D43B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CD2A5-C0E9-430C-8D37-57EAEE1D50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