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move the slide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2"/>
          </p:nvPr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3"/>
          </p:nvPr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8C7976-BFEF-4EBB-A8D0-4612890E36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hank-you, Madam Chairperson, Advisory committee members, and representatives of the FDA.  My name is Daniel Vlock and I am Senior Director of Clinical Research at Pharmac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Today we are here to provide an update on the status of our subpart H post-approval commitments for Celebrex in the treatment of Familial Adenomatous Polyposis or FA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5023B2C0-C26A-4011-9CD9-182FE9D93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1D0CA30-2725-4FC8-AC6C-A3FE2FC63D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body"/>
          </p:nvPr>
        </p:nvSpPr>
        <p:spPr>
          <a:xfrm>
            <a:off x="526680" y="4167000"/>
            <a:ext cx="5653080" cy="41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344FD24-4431-4C58-B92B-DCE701CC1A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esides myself the following individuals will be able to answer any questions from the committe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. Langdon Miller, and Kenneth Verburg both in Clinical Research at Pharmac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rs. Bernard Levin and Patrick Lynch of the MD Anderson Cancer Cen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6DED84A4-A53F-4F4B-9305-C0F916BAE5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19240" y="682560"/>
            <a:ext cx="4589280" cy="34416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7280" y="4361040"/>
            <a:ext cx="5413320" cy="4130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720" rIns="90720" tIns="45360" bIns="4536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harmacia is fully dedicated to completing its post-approval commit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s you heard yesterday from the FDA, Pharmacia has completed subpart H requirements for ZINECARD and CAMPTOSAR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e are similarly dedicated to ensuring completion of our commitments for celecoxib in FAP a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nd our post-approval  program is under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B181997-2A3E-46B3-9969-951E9F147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444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7640" y="4360680"/>
            <a:ext cx="5022720" cy="412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49FB00B0-8411-40A1-9002-B56928DB44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584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E5BB26C-66A3-47AF-AF66-C65633D609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72172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584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body"/>
          </p:nvPr>
        </p:nvSpPr>
        <p:spPr>
          <a:xfrm>
            <a:off x="917640" y="4361040"/>
            <a:ext cx="5022720" cy="413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  <a:ea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ldImg"/>
          </p:nvPr>
        </p:nvSpPr>
        <p:spPr>
          <a:xfrm>
            <a:off x="1135080" y="689040"/>
            <a:ext cx="4587840" cy="344160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1906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76080" y="13712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0492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1906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76080" y="3839040"/>
            <a:ext cx="27478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04560" y="380520"/>
            <a:ext cx="8515080" cy="273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7840" y="38390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7840" y="1371240"/>
            <a:ext cx="416448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4920" y="3839040"/>
            <a:ext cx="853416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444600" y="6286680"/>
            <a:ext cx="1828800" cy="30456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>
            <a:off x="266760" y="195120"/>
            <a:ext cx="6667560" cy="109800"/>
          </a:xfrm>
          <a:custGeom>
            <a:avLst/>
            <a:gdLst/>
            <a:ahLst/>
            <a:rect l="l" t="t" r="r" b="b"/>
            <a:pathLst>
              <a:path w="4613" h="105">
                <a:moveTo>
                  <a:pt x="0" y="0"/>
                </a:moveTo>
                <a:lnTo>
                  <a:pt x="4613" y="4"/>
                </a:lnTo>
                <a:lnTo>
                  <a:pt x="4450" y="104"/>
                </a:lnTo>
                <a:lnTo>
                  <a:pt x="0" y="105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66ff"/>
              </a:gs>
              <a:gs pos="100000">
                <a:srgbClr val="cccc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2463840" y="6299280"/>
            <a:ext cx="6350040" cy="315360"/>
            <a:chOff x="2463840" y="6299280"/>
            <a:chExt cx="6350040" cy="315360"/>
          </a:xfrm>
        </p:grpSpPr>
        <p:sp>
          <p:nvSpPr>
            <p:cNvPr id="5" name=""/>
            <p:cNvSpPr/>
            <p:nvPr/>
          </p:nvSpPr>
          <p:spPr>
            <a:xfrm>
              <a:off x="2463840" y="6537240"/>
              <a:ext cx="6350040" cy="77400"/>
            </a:xfrm>
            <a:custGeom>
              <a:avLst/>
              <a:gdLst/>
              <a:ahLst/>
              <a:rect l="l" t="t" r="r" b="b"/>
              <a:pathLst>
                <a:path w="4686" h="49">
                  <a:moveTo>
                    <a:pt x="0" y="48"/>
                  </a:moveTo>
                  <a:lnTo>
                    <a:pt x="4685" y="48"/>
                  </a:lnTo>
                  <a:lnTo>
                    <a:pt x="4685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88320" y="6418080"/>
              <a:ext cx="6325200" cy="77400"/>
            </a:xfrm>
            <a:custGeom>
              <a:avLst/>
              <a:gdLst/>
              <a:ahLst/>
              <a:rect l="l" t="t" r="r" b="b"/>
              <a:pathLst>
                <a:path w="4668" h="49">
                  <a:moveTo>
                    <a:pt x="0" y="48"/>
                  </a:moveTo>
                  <a:lnTo>
                    <a:pt x="4667" y="48"/>
                  </a:lnTo>
                  <a:lnTo>
                    <a:pt x="4667" y="0"/>
                  </a:lnTo>
                  <a:lnTo>
                    <a:pt x="12" y="0"/>
                  </a:lnTo>
                  <a:lnTo>
                    <a:pt x="0" y="48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512440" y="6299280"/>
              <a:ext cx="6301080" cy="82440"/>
            </a:xfrm>
            <a:custGeom>
              <a:avLst/>
              <a:gdLst/>
              <a:ahLst/>
              <a:rect l="l" t="t" r="r" b="b"/>
              <a:pathLst>
                <a:path w="4650" h="52">
                  <a:moveTo>
                    <a:pt x="0" y="51"/>
                  </a:moveTo>
                  <a:lnTo>
                    <a:pt x="4649" y="48"/>
                  </a:lnTo>
                  <a:lnTo>
                    <a:pt x="4649" y="6"/>
                  </a:lnTo>
                  <a:lnTo>
                    <a:pt x="12" y="0"/>
                  </a:lnTo>
                  <a:lnTo>
                    <a:pt x="0" y="51"/>
                  </a:lnTo>
                </a:path>
              </a:pathLst>
            </a:custGeom>
            <a:gradFill rotWithShape="0">
              <a:gsLst>
                <a:gs pos="0">
                  <a:srgbClr val="ccccff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7074360" y="76320"/>
            <a:ext cx="19512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Tahoma"/>
              </a:rPr>
              <a:t>Celecoxib in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6541920"/>
            <a:ext cx="66672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A8955-94CC-401A-B6BB-2BD2453005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elecoxib (CELEBREX</a:t>
            </a:r>
            <a:r>
              <a:rPr b="1" lang="en-US" sz="3600" spc="-1" strike="noStrike" baseline="30000">
                <a:solidFill>
                  <a:srgbClr val="0033cc"/>
                </a:solidFill>
                <a:latin typeface="Tahoma"/>
              </a:rPr>
              <a:t>®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)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Adjunctive Therapy of 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Familial Adenomatous Polyposis</a:t>
            </a:r>
            <a:br>
              <a:rPr sz="3600"/>
            </a:b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(FAP)</a:t>
            </a: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Subpart H Approval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aniel R. Vlock, MD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480060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DAC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arch 12-13, 2003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FAP Indication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To reduce the number of adenomatous colorectal polyps in familial adenomatous polyposis (FAP), as an adjunct to usual care (e.g., endoscopic surveillance, surgery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re is a clinical benefit from a reduction in  the number of colorectal polyps in FAP patients.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It is not known whether the effects of CELEBREX treatment will persist after CELEBREX is discontinued 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The efficacy and safety of CELEBREX treatment in patients with FAP beyond six months have not been studied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signed to verify clinical benefi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termine both efficacy and safety parameters associated with short and long-term exposur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407880" y="132552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 Proposed Design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05" name=""/>
          <p:cNvSpPr/>
          <p:nvPr/>
        </p:nvSpPr>
        <p:spPr>
          <a:xfrm>
            <a:off x="711360" y="1752480"/>
            <a:ext cx="78912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II study of celecoxib in genotype-positive, phenotype negative children with FA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:2 randomiz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N = 2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irst ade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367920" y="3247920"/>
            <a:ext cx="8776080" cy="4897440"/>
            <a:chOff x="367920" y="3247920"/>
            <a:chExt cx="8776080" cy="4897440"/>
          </a:xfrm>
        </p:grpSpPr>
        <p:sp>
          <p:nvSpPr>
            <p:cNvPr id="208" name=""/>
            <p:cNvSpPr/>
            <p:nvPr/>
          </p:nvSpPr>
          <p:spPr>
            <a:xfrm>
              <a:off x="367920" y="32479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523880" y="3421080"/>
              <a:ext cx="7620120" cy="472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FP awarded (</a:t>
              </a: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 collaborating institutions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MD Anderson - lead instit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reighton Universit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morial Sloan-Kettering Cancer Cen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eveland Clin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Texas Children’s Hospita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University of California San Francisc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t Sinai Hospital  (Toronto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St Mark’s Hospital (England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385560" y="2209680"/>
            <a:ext cx="8301240" cy="1295640"/>
            <a:chOff x="385560" y="2209680"/>
            <a:chExt cx="8301240" cy="1295640"/>
          </a:xfrm>
        </p:grpSpPr>
        <p:sp>
          <p:nvSpPr>
            <p:cNvPr id="211" name=""/>
            <p:cNvSpPr/>
            <p:nvPr/>
          </p:nvSpPr>
          <p:spPr>
            <a:xfrm>
              <a:off x="385560" y="2274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554120" y="2209680"/>
              <a:ext cx="713268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NCI/Pharmacia collaboratio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NCI issues request for proposals (RF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harmacia to provide drug and monetary suppor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284040" y="1371240"/>
            <a:ext cx="7828200" cy="838440"/>
            <a:chOff x="284040" y="1371240"/>
            <a:chExt cx="7828200" cy="838440"/>
          </a:xfrm>
        </p:grpSpPr>
        <p:sp>
          <p:nvSpPr>
            <p:cNvPr id="214" name=""/>
            <p:cNvSpPr/>
            <p:nvPr/>
          </p:nvSpPr>
          <p:spPr>
            <a:xfrm>
              <a:off x="284040" y="13712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558800" y="1523880"/>
              <a:ext cx="655344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DA agrees with study concep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4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000"/>
            </a:b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755280" y="2417400"/>
            <a:ext cx="8845920" cy="1163880"/>
            <a:chOff x="755280" y="2417400"/>
            <a:chExt cx="8845920" cy="1163880"/>
          </a:xfrm>
        </p:grpSpPr>
        <p:sp>
          <p:nvSpPr>
            <p:cNvPr id="218" name=""/>
            <p:cNvSpPr/>
            <p:nvPr/>
          </p:nvSpPr>
          <p:spPr>
            <a:xfrm>
              <a:off x="755280" y="24174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981080" y="24382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raft phase I protocol develop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60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submitted to NCI and Pharmacia</a:t>
              </a: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731520" y="1045800"/>
            <a:ext cx="8850600" cy="1163880"/>
            <a:chOff x="731520" y="1045800"/>
            <a:chExt cx="8850600" cy="1163880"/>
          </a:xfrm>
        </p:grpSpPr>
        <p:sp>
          <p:nvSpPr>
            <p:cNvPr id="221" name=""/>
            <p:cNvSpPr/>
            <p:nvPr/>
          </p:nvSpPr>
          <p:spPr>
            <a:xfrm>
              <a:off x="731520" y="10458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962000" y="1066680"/>
              <a:ext cx="76201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tudy concerns among collabo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ediatric pop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elecoxib dose not established in childr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ilot dose-ranging trial need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31520" y="3087360"/>
            <a:ext cx="8182440" cy="951120"/>
            <a:chOff x="731520" y="3087360"/>
            <a:chExt cx="8182440" cy="951120"/>
          </a:xfrm>
        </p:grpSpPr>
        <p:sp>
          <p:nvSpPr>
            <p:cNvPr id="224" name=""/>
            <p:cNvSpPr/>
            <p:nvPr/>
          </p:nvSpPr>
          <p:spPr>
            <a:xfrm>
              <a:off x="1979640" y="3352680"/>
              <a:ext cx="6934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/III program submitted to FDA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1520" y="3087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6" name=""/>
          <p:cNvGrpSpPr/>
          <p:nvPr/>
        </p:nvGrpSpPr>
        <p:grpSpPr>
          <a:xfrm>
            <a:off x="682200" y="3835080"/>
            <a:ext cx="8247240" cy="794160"/>
            <a:chOff x="682200" y="3835080"/>
            <a:chExt cx="8247240" cy="794160"/>
          </a:xfrm>
        </p:grpSpPr>
        <p:sp>
          <p:nvSpPr>
            <p:cNvPr id="227" name=""/>
            <p:cNvSpPr/>
            <p:nvPr/>
          </p:nvSpPr>
          <p:spPr>
            <a:xfrm>
              <a:off x="1995480" y="3998880"/>
              <a:ext cx="6933960" cy="40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ccepts progra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2200" y="38350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20360" y="5475240"/>
            <a:ext cx="8195040" cy="794160"/>
            <a:chOff x="720360" y="5475240"/>
            <a:chExt cx="8195040" cy="794160"/>
          </a:xfrm>
        </p:grpSpPr>
        <p:sp>
          <p:nvSpPr>
            <p:cNvPr id="230" name=""/>
            <p:cNvSpPr/>
            <p:nvPr/>
          </p:nvSpPr>
          <p:spPr>
            <a:xfrm>
              <a:off x="1981080" y="5715000"/>
              <a:ext cx="69343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approved by NCI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20360" y="54752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465840" y="4649760"/>
            <a:ext cx="8487360" cy="909360"/>
            <a:chOff x="465840" y="4649760"/>
            <a:chExt cx="8487360" cy="909360"/>
          </a:xfrm>
        </p:grpSpPr>
        <p:sp>
          <p:nvSpPr>
            <p:cNvPr id="233" name=""/>
            <p:cNvSpPr/>
            <p:nvPr/>
          </p:nvSpPr>
          <p:spPr>
            <a:xfrm>
              <a:off x="2018880" y="4832280"/>
              <a:ext cx="6934320" cy="72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3 protocol revisions requi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65840" y="4649760"/>
              <a:ext cx="1404360" cy="671040"/>
            </a:xfrm>
            <a:prstGeom prst="rightArrow">
              <a:avLst>
                <a:gd name="adj1" fmla="val 50000"/>
                <a:gd name="adj2" fmla="val 52320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/01-12/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380880" y="1219320"/>
            <a:ext cx="8261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04560" y="39960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y</a:t>
            </a:r>
            <a:br>
              <a:rPr sz="2000"/>
            </a:br>
            <a:r>
              <a:rPr b="1" lang="en-US" sz="2000" spc="-1" strike="noStrike">
                <a:solidFill>
                  <a:srgbClr val="0033cc"/>
                </a:solidFill>
                <a:latin typeface="Tahoma"/>
              </a:rPr>
              <a:t> Phase I Design</a:t>
            </a:r>
            <a:endParaRPr b="1" lang="en-US" sz="2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Phase I study of celecoxib in genotype-positive children with F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.T. M.D. Anderson,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Texas Children's Hospital, Cleveland Clin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sign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ose escalation trial in successive cohorts of 6 pati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lecoxib (2, 4, 8 mg/kg po BID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mple size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N =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 months for each coh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Safe dose in children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"/>
          <p:cNvGrpSpPr/>
          <p:nvPr/>
        </p:nvGrpSpPr>
        <p:grpSpPr>
          <a:xfrm>
            <a:off x="860040" y="1001520"/>
            <a:ext cx="5364360" cy="794160"/>
            <a:chOff x="860040" y="1001520"/>
            <a:chExt cx="5364360" cy="794160"/>
          </a:xfrm>
        </p:grpSpPr>
        <p:sp>
          <p:nvSpPr>
            <p:cNvPr id="239" name=""/>
            <p:cNvSpPr/>
            <p:nvPr/>
          </p:nvSpPr>
          <p:spPr>
            <a:xfrm>
              <a:off x="2185920" y="1225800"/>
              <a:ext cx="4038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MDACC IRB approv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860040" y="1001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860040" y="2503440"/>
            <a:ext cx="8031600" cy="794160"/>
            <a:chOff x="860040" y="2503440"/>
            <a:chExt cx="8031600" cy="794160"/>
          </a:xfrm>
        </p:grpSpPr>
        <p:sp>
          <p:nvSpPr>
            <p:cNvPr id="242" name=""/>
            <p:cNvSpPr/>
            <p:nvPr/>
          </p:nvSpPr>
          <p:spPr>
            <a:xfrm>
              <a:off x="2185920" y="265104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Site initiation meeting hel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60040" y="25034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874440" y="3939840"/>
            <a:ext cx="7803000" cy="798480"/>
            <a:chOff x="874440" y="3939840"/>
            <a:chExt cx="7803000" cy="798480"/>
          </a:xfrm>
        </p:grpSpPr>
        <p:sp>
          <p:nvSpPr>
            <p:cNvPr id="245" name=""/>
            <p:cNvSpPr/>
            <p:nvPr/>
          </p:nvSpPr>
          <p:spPr>
            <a:xfrm>
              <a:off x="2200320" y="4128840"/>
              <a:ext cx="64771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revised to use commercial capsule for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874440" y="393984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8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904320" y="4686120"/>
            <a:ext cx="7644240" cy="794160"/>
            <a:chOff x="904320" y="4686120"/>
            <a:chExt cx="7644240" cy="794160"/>
          </a:xfrm>
        </p:grpSpPr>
        <p:sp>
          <p:nvSpPr>
            <p:cNvPr id="248" name=""/>
            <p:cNvSpPr/>
            <p:nvPr/>
          </p:nvSpPr>
          <p:spPr>
            <a:xfrm>
              <a:off x="2217600" y="4867200"/>
              <a:ext cx="6330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rst patient enrolled in phase I stud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urrent accrual 6 of 18 (first cohort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904320" y="46861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0" name=""/>
          <p:cNvSpPr/>
          <p:nvPr/>
        </p:nvSpPr>
        <p:spPr>
          <a:xfrm>
            <a:off x="68580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Phenotype Suppression Studies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32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801360" y="1739520"/>
            <a:ext cx="6735960" cy="794160"/>
            <a:chOff x="801360" y="1739520"/>
            <a:chExt cx="6735960" cy="794160"/>
          </a:xfrm>
        </p:grpSpPr>
        <p:sp>
          <p:nvSpPr>
            <p:cNvPr id="252" name=""/>
            <p:cNvSpPr/>
            <p:nvPr/>
          </p:nvSpPr>
          <p:spPr>
            <a:xfrm>
              <a:off x="2190600" y="1928520"/>
              <a:ext cx="534672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nal phase I protoco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801360" y="17395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883800" y="3171600"/>
            <a:ext cx="8031600" cy="794160"/>
            <a:chOff x="883800" y="3171600"/>
            <a:chExt cx="8031600" cy="794160"/>
          </a:xfrm>
        </p:grpSpPr>
        <p:sp>
          <p:nvSpPr>
            <p:cNvPr id="255" name=""/>
            <p:cNvSpPr/>
            <p:nvPr/>
          </p:nvSpPr>
          <p:spPr>
            <a:xfrm>
              <a:off x="2209680" y="3395520"/>
              <a:ext cx="6705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Development delays with investigational 50-mg orally dispersible table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3800" y="31716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6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920520" y="5310000"/>
            <a:ext cx="7623360" cy="794160"/>
            <a:chOff x="920520" y="5310000"/>
            <a:chExt cx="7623360" cy="794160"/>
          </a:xfrm>
        </p:grpSpPr>
        <p:sp>
          <p:nvSpPr>
            <p:cNvPr id="258" name=""/>
            <p:cNvSpPr/>
            <p:nvPr/>
          </p:nvSpPr>
          <p:spPr>
            <a:xfrm>
              <a:off x="2212920" y="5491080"/>
              <a:ext cx="6330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hase III tria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00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Last patient in 2006, final report 201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920520" y="5310000"/>
              <a:ext cx="944640" cy="794160"/>
            </a:xfrm>
            <a:prstGeom prst="rightArrow">
              <a:avLst>
                <a:gd name="adj1" fmla="val 50000"/>
                <a:gd name="adj2" fmla="val 29737"/>
              </a:avLst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Q04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14280" y="68580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  <a:ea typeface="Times New Roman"/>
              </a:rPr>
              <a:t>Subpart H Commitments</a:t>
            </a: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 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 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2b2b2"/>
                </a:solidFill>
                <a:latin typeface="Tahoma"/>
                <a:ea typeface="Times New Roman"/>
              </a:rPr>
              <a:t>FAP phenotype suppression stud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2b2b2"/>
                </a:solidFill>
                <a:latin typeface="Tahoma"/>
                <a:ea typeface="Times New Roman"/>
              </a:rPr>
              <a:t>Placebo-controlled trial in patients who are genotypically positive (have APC mutation) but phenotypically negative (have not yet developed polyps)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imes New Roman"/>
              </a:rPr>
              <a:t>FAP registry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A long-term registry of clinical outcom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Initial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523880"/>
            <a:ext cx="81532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atients receiving celecoxib Historical control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ime to FAP-related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dverse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33360" y="58428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ODAC Meeting</a:t>
            </a: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harmacia Attendees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120" y="1501560"/>
            <a:ext cx="8534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ngdon Miller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nneth Verburg, M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ice President, Clinical Research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.K. Narang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nior Director, Regulatory Affair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erry Barker, Ph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rector, Biostatistic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ernard Levin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 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trick Lynch, MD (consultant)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D Anderson Cancer Center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14280" y="609120"/>
            <a:ext cx="851544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284040" y="934920"/>
            <a:ext cx="7412040" cy="794160"/>
            <a:chOff x="284040" y="934920"/>
            <a:chExt cx="7412040" cy="794160"/>
          </a:xfrm>
        </p:grpSpPr>
        <p:sp>
          <p:nvSpPr>
            <p:cNvPr id="267" name=""/>
            <p:cNvSpPr/>
            <p:nvPr/>
          </p:nvSpPr>
          <p:spPr>
            <a:xfrm>
              <a:off x="1447920" y="1158840"/>
              <a:ext cx="624816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DA agrees with concep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4040" y="934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99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299520" y="1752480"/>
            <a:ext cx="8539560" cy="2438640"/>
            <a:chOff x="299520" y="1752480"/>
            <a:chExt cx="8539560" cy="2438640"/>
          </a:xfrm>
        </p:grpSpPr>
        <p:sp>
          <p:nvSpPr>
            <p:cNvPr id="270" name=""/>
            <p:cNvSpPr/>
            <p:nvPr/>
          </p:nvSpPr>
          <p:spPr>
            <a:xfrm>
              <a:off x="1447920" y="1752480"/>
              <a:ext cx="7391160" cy="24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rns raised in discussions with expert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Patients who would receive drug in clinical practice not yet characterize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hanges in clinical management might confound comparis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plexity of surgical decisions would introduce variability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ime to FAP-related events is often lo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9520" y="2401560"/>
              <a:ext cx="1094400" cy="794160"/>
            </a:xfrm>
            <a:prstGeom prst="rightArrow">
              <a:avLst>
                <a:gd name="adj1" fmla="val 50000"/>
                <a:gd name="adj2" fmla="val 34451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-4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2" name=""/>
          <p:cNvGrpSpPr/>
          <p:nvPr/>
        </p:nvGrpSpPr>
        <p:grpSpPr>
          <a:xfrm>
            <a:off x="274320" y="4191120"/>
            <a:ext cx="8564760" cy="1447560"/>
            <a:chOff x="274320" y="4191120"/>
            <a:chExt cx="8564760" cy="1447560"/>
          </a:xfrm>
        </p:grpSpPr>
        <p:sp>
          <p:nvSpPr>
            <p:cNvPr id="273" name=""/>
            <p:cNvSpPr/>
            <p:nvPr/>
          </p:nvSpPr>
          <p:spPr>
            <a:xfrm>
              <a:off x="1447920" y="4191120"/>
              <a:ext cx="739116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to registry explor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llaboration with NCI and Ilex Pharmaceutica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mbination trial celecoxib </a:t>
              </a:r>
              <a:r>
                <a:rPr b="1" lang="en-US" sz="1800" spc="-1" strike="noStrike" u="sng">
                  <a:solidFill>
                    <a:srgbClr val="000000"/>
                  </a:solidFill>
                  <a:uFillTx/>
                  <a:latin typeface="Tahoma"/>
                </a:rPr>
                <a:t>+</a:t>
              </a: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 difluoromethylornithine (DFM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74320" y="438300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5" name=""/>
          <p:cNvGrpSpPr/>
          <p:nvPr/>
        </p:nvGrpSpPr>
        <p:grpSpPr>
          <a:xfrm>
            <a:off x="284040" y="5484600"/>
            <a:ext cx="8555040" cy="798840"/>
            <a:chOff x="284040" y="5484600"/>
            <a:chExt cx="8555040" cy="798840"/>
          </a:xfrm>
        </p:grpSpPr>
        <p:sp>
          <p:nvSpPr>
            <p:cNvPr id="276" name=""/>
            <p:cNvSpPr/>
            <p:nvPr/>
          </p:nvSpPr>
          <p:spPr>
            <a:xfrm>
              <a:off x="1447920" y="5673600"/>
              <a:ext cx="7391160" cy="60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Alternative proposal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84040" y="548460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14280" y="7621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523880" y="1371240"/>
            <a:ext cx="73915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DA feedback 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posed DFMO study did not address Subpart H commitments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DA still considered a registry worthwhil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cknowledged that new therapies and differences in clinical practice may confound analysi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fforts refocused on FAP regist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304920" y="1447920"/>
            <a:ext cx="1170000" cy="907920"/>
          </a:xfrm>
          <a:prstGeom prst="rightArrow">
            <a:avLst>
              <a:gd name="adj1" fmla="val 50000"/>
              <a:gd name="adj2" fmla="val 32216"/>
            </a:avLst>
          </a:prstGeom>
          <a:solidFill>
            <a:srgbClr val="00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4/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1" name=""/>
          <p:cNvGrpSpPr/>
          <p:nvPr/>
        </p:nvGrpSpPr>
        <p:grpSpPr>
          <a:xfrm>
            <a:off x="460080" y="1185840"/>
            <a:ext cx="8564760" cy="1676520"/>
            <a:chOff x="460080" y="1185840"/>
            <a:chExt cx="8564760" cy="1676520"/>
          </a:xfrm>
        </p:grpSpPr>
        <p:sp>
          <p:nvSpPr>
            <p:cNvPr id="282" name=""/>
            <p:cNvSpPr/>
            <p:nvPr/>
          </p:nvSpPr>
          <p:spPr>
            <a:xfrm>
              <a:off x="1633680" y="1185840"/>
              <a:ext cx="7391160" cy="167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rtnership pursued with Collaborative Group of the Americas on Inherited Colorectal Cancer (CGA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onsortium of 17 registries and clinics in US, Canada and South Americ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60080" y="141912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5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69800" y="2205000"/>
            <a:ext cx="8555040" cy="1371600"/>
            <a:chOff x="469800" y="2205000"/>
            <a:chExt cx="8555040" cy="1371600"/>
          </a:xfrm>
        </p:grpSpPr>
        <p:sp>
          <p:nvSpPr>
            <p:cNvPr id="285" name=""/>
            <p:cNvSpPr/>
            <p:nvPr/>
          </p:nvSpPr>
          <p:spPr>
            <a:xfrm>
              <a:off x="1633680" y="2205000"/>
              <a:ext cx="7391160" cy="137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Concept for provider-driven registry presented at CGA annual meeting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69800" y="270144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293400" y="3680640"/>
            <a:ext cx="8260200" cy="1191240"/>
            <a:chOff x="293400" y="3680640"/>
            <a:chExt cx="8260200" cy="1191240"/>
          </a:xfrm>
        </p:grpSpPr>
        <p:sp>
          <p:nvSpPr>
            <p:cNvPr id="288" name=""/>
            <p:cNvSpPr/>
            <p:nvPr/>
          </p:nvSpPr>
          <p:spPr>
            <a:xfrm>
              <a:off x="1619280" y="3728880"/>
              <a:ext cx="69343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Web-based registry utilizing CGA centers designed and developed by MDACC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93400" y="3680640"/>
              <a:ext cx="1195560" cy="549360"/>
            </a:xfrm>
            <a:prstGeom prst="rightArrow">
              <a:avLst>
                <a:gd name="adj1" fmla="val 50000"/>
                <a:gd name="adj2" fmla="val 54407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11/01 - 3/0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460080" y="5267160"/>
            <a:ext cx="8564760" cy="1143000"/>
            <a:chOff x="460080" y="5267160"/>
            <a:chExt cx="8564760" cy="1143000"/>
          </a:xfrm>
        </p:grpSpPr>
        <p:sp>
          <p:nvSpPr>
            <p:cNvPr id="291" name=""/>
            <p:cNvSpPr/>
            <p:nvPr/>
          </p:nvSpPr>
          <p:spPr>
            <a:xfrm>
              <a:off x="1633680" y="5267160"/>
              <a:ext cx="739116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On further review, CGA members express lack of enthusiasm for regist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100000"/>
                </a:lnSpc>
                <a:spcBef>
                  <a:spcPts val="451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Too labor-intensiv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0080" y="53481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04920" y="533520"/>
            <a:ext cx="851508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550440" y="4454280"/>
            <a:ext cx="8484120" cy="835200"/>
            <a:chOff x="550440" y="4454280"/>
            <a:chExt cx="8484120" cy="835200"/>
          </a:xfrm>
        </p:grpSpPr>
        <p:sp>
          <p:nvSpPr>
            <p:cNvPr id="295" name=""/>
            <p:cNvSpPr/>
            <p:nvPr/>
          </p:nvSpPr>
          <p:spPr>
            <a:xfrm>
              <a:off x="1643040" y="4586400"/>
              <a:ext cx="73915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ull web-based protocol submitted to CGA membershi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50440" y="44542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4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"/>
          <p:cNvGrpSpPr/>
          <p:nvPr/>
        </p:nvGrpSpPr>
        <p:grpSpPr>
          <a:xfrm>
            <a:off x="274320" y="1162080"/>
            <a:ext cx="8483760" cy="1600200"/>
            <a:chOff x="274320" y="1162080"/>
            <a:chExt cx="8483760" cy="1600200"/>
          </a:xfrm>
        </p:grpSpPr>
        <p:sp>
          <p:nvSpPr>
            <p:cNvPr id="298" name=""/>
            <p:cNvSpPr/>
            <p:nvPr/>
          </p:nvSpPr>
          <p:spPr>
            <a:xfrm>
              <a:off x="1442880" y="1162080"/>
              <a:ext cx="7315200" cy="160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revises regist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s to enter own data via interne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4320" y="13953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7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0" name=""/>
          <p:cNvGrpSpPr/>
          <p:nvPr/>
        </p:nvGrpSpPr>
        <p:grpSpPr>
          <a:xfrm>
            <a:off x="207720" y="2038320"/>
            <a:ext cx="8555400" cy="1066680"/>
            <a:chOff x="207720" y="2038320"/>
            <a:chExt cx="8555400" cy="1066680"/>
          </a:xfrm>
        </p:grpSpPr>
        <p:sp>
          <p:nvSpPr>
            <p:cNvPr id="301" name=""/>
            <p:cNvSpPr/>
            <p:nvPr/>
          </p:nvSpPr>
          <p:spPr>
            <a:xfrm>
              <a:off x="1447920" y="2038320"/>
              <a:ext cx="731520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CGA annual meet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Revised proposal presented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07720" y="207792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0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207720" y="2890800"/>
            <a:ext cx="8555400" cy="1295280"/>
            <a:chOff x="207720" y="2890800"/>
            <a:chExt cx="8555400" cy="1295280"/>
          </a:xfrm>
        </p:grpSpPr>
        <p:sp>
          <p:nvSpPr>
            <p:cNvPr id="304" name=""/>
            <p:cNvSpPr/>
            <p:nvPr/>
          </p:nvSpPr>
          <p:spPr>
            <a:xfrm>
              <a:off x="1447920" y="289080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Prototype of patient-driven internet registry developed at MDAC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bmitted to MDACC IR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43080" indent="-34308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07720" y="3124080"/>
              <a:ext cx="1000440" cy="794160"/>
            </a:xfrm>
            <a:prstGeom prst="rightArrow">
              <a:avLst>
                <a:gd name="adj1" fmla="val 50000"/>
                <a:gd name="adj2" fmla="val 3149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2/0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74320" y="4000680"/>
            <a:ext cx="8483760" cy="1295280"/>
            <a:chOff x="274320" y="4000680"/>
            <a:chExt cx="8483760" cy="1295280"/>
          </a:xfrm>
        </p:grpSpPr>
        <p:sp>
          <p:nvSpPr>
            <p:cNvPr id="307" name=""/>
            <p:cNvSpPr/>
            <p:nvPr/>
          </p:nvSpPr>
          <p:spPr>
            <a:xfrm>
              <a:off x="1442880" y="4000680"/>
              <a:ext cx="7315200" cy="129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MDACC IRB does not recommend approva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Lack of source data ver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atient confidentiality issu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4320" y="426888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1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14280" y="609480"/>
            <a:ext cx="8515440" cy="5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4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rief Chronology of Events</a:t>
            </a:r>
            <a:br>
              <a:rPr sz="28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93400" y="5144760"/>
            <a:ext cx="8483760" cy="1313280"/>
            <a:chOff x="293400" y="5144760"/>
            <a:chExt cx="8483760" cy="1313280"/>
          </a:xfrm>
        </p:grpSpPr>
        <p:sp>
          <p:nvSpPr>
            <p:cNvPr id="311" name=""/>
            <p:cNvSpPr/>
            <p:nvPr/>
          </p:nvSpPr>
          <p:spPr>
            <a:xfrm>
              <a:off x="1461960" y="5162400"/>
              <a:ext cx="7315200" cy="129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90000"/>
                </a:lnSpc>
                <a:spcBef>
                  <a:spcPts val="601"/>
                </a:spcBef>
                <a:buClr>
                  <a:srgbClr val="000000"/>
                </a:buClr>
                <a:buFont typeface="Wingdings" charset="2"/>
                <a:buChar char="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Revised protocol with established registries develope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buClr>
                  <a:srgbClr val="000000"/>
                </a:buClr>
                <a:buFont typeface="Tahoma"/>
                <a:buChar char="–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Protocol summary submitted to FD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93400" y="5144760"/>
              <a:ext cx="833040" cy="794160"/>
            </a:xfrm>
            <a:prstGeom prst="rightArrow">
              <a:avLst>
                <a:gd name="adj1" fmla="val 50000"/>
                <a:gd name="adj2" fmla="val 26224"/>
              </a:avLst>
            </a:prstGeom>
            <a:solidFill>
              <a:srgbClr val="0099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2/0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457200" y="1295280"/>
            <a:ext cx="8261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38815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FAP Registry</a:t>
            </a:r>
            <a:br>
              <a:rPr sz="2800"/>
            </a:b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Proposed Design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5" name=""/>
          <p:cNvSpPr/>
          <p:nvPr/>
        </p:nvSpPr>
        <p:spPr>
          <a:xfrm>
            <a:off x="647640" y="1265400"/>
            <a:ext cx="830592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Observation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 Popul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Patients receiving celecoxi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istorical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ites under consideration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Times New Roman"/>
              </a:rPr>
              <a:t>Established FAP regis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bjectives: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characteristics of patient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o receive celecoxib in clinical prac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scribe patterns of celecoxib use 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isease managem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Evaluate long-term safety of celecoxib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Assess whether celecoxib use may alter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management of F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-  Determine impact on incidence of FAP-relat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s (eg, polypectomy, surgery, cancer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esmoids, deat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Conclusions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8" name=""/>
          <p:cNvSpPr/>
          <p:nvPr/>
        </p:nvSpPr>
        <p:spPr>
          <a:xfrm>
            <a:off x="361800" y="3019320"/>
            <a:ext cx="85345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Phenotype suppression program to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verify clinical benefit has begu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ontinuing progress in implementing a revised FAP regis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7" dur="5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2" dur="5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7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Tahoma"/>
              </a:rPr>
              <a:t>Summary</a:t>
            </a:r>
            <a:endParaRPr b="1" lang="en-US" sz="36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853416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Pharmacia is committed to fulfilling Subpart H requirements 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2438280"/>
            <a:ext cx="853416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Successful completion of ZINECARD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, CAMPTOSAR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ahoma"/>
              </a:rPr>
              <a:t>®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 commi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  <a:ea typeface="Times New Roman"/>
              </a:rPr>
              <a:t>CELEBREX FAP post-approval program underwa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resentation Agenda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5341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FAP overview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asis for celecoxib approval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dication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ubpart H commitment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s 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4280" y="533520"/>
            <a:ext cx="8515440" cy="59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Tahoma"/>
              </a:rPr>
              <a:t>FAP Overview</a:t>
            </a:r>
            <a:endParaRPr b="1" lang="en-US" sz="40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838188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are, life-threatening diseas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2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utosomal dominant inherit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876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Germline APC mutations (5q21)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~ 300 new patients/year in U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ahoma"/>
              </a:rPr>
              <a:t>Accounts for 1% of all colorectal cancer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8600" y="1219320"/>
            <a:ext cx="8686800" cy="4876560"/>
          </a:xfrm>
          <a:prstGeom prst="rect">
            <a:avLst/>
          </a:prstGeom>
          <a:solidFill>
            <a:srgbClr val="0033cc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457200" y="1755720"/>
            <a:ext cx="4040280" cy="37749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9720" y="95400"/>
            <a:ext cx="840456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0033cc"/>
                </a:solidFill>
                <a:latin typeface="Tahoma"/>
              </a:rPr>
              <a:t>Natural History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648320" y="1708200"/>
            <a:ext cx="4039920" cy="3778200"/>
            <a:chOff x="4648320" y="1708200"/>
            <a:chExt cx="4039920" cy="3778200"/>
          </a:xfrm>
        </p:grpSpPr>
        <p:pic>
          <p:nvPicPr>
            <p:cNvPr id="68" name="" descr=""/>
            <p:cNvPicPr/>
            <p:nvPr/>
          </p:nvPicPr>
          <p:blipFill>
            <a:blip r:embed="rId2"/>
            <a:srcRect l="0" t="17895" r="0" b="8412"/>
            <a:stretch/>
          </p:blipFill>
          <p:spPr>
            <a:xfrm>
              <a:off x="4648320" y="1708200"/>
              <a:ext cx="4039920" cy="377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 txBox="1"/>
            <p:nvPr/>
          </p:nvSpPr>
          <p:spPr>
            <a:xfrm>
              <a:off x="4648320" y="1708200"/>
              <a:ext cx="4039920" cy="3778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Autofit/>
            </a:bodyPr>
            <a:p>
              <a:pPr marL="343080" indent="-343080">
                <a:lnSpc>
                  <a:spcPct val="95000"/>
                </a:lnSpc>
                <a:spcBef>
                  <a:spcPts val="15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647640" y="1886040"/>
            <a:ext cx="7996320" cy="30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Adenomas begin to develop in early adolesc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100-5000 colorectal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Cancer risk increases with number of adeno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>
              <a:lnSpc>
                <a:spcPct val="100000"/>
              </a:lnSpc>
              <a:spcBef>
                <a:spcPts val="15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00"/>
                </a:solidFill>
                <a:latin typeface="Tahoma"/>
              </a:rPr>
              <a:t>If untre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100% colorectal cancer ri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00"/>
                </a:solidFill>
                <a:latin typeface="Tahoma"/>
              </a:rPr>
              <a:t>Median life expectancy – 42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7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2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" dur="500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" dur="5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Disease Management</a:t>
            </a:r>
            <a:endParaRPr b="1" lang="en-US" sz="32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85840" y="1942920"/>
            <a:ext cx="8534160" cy="30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ifetime endoscopic surveillanc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itial colon resection 18-20 years of age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Repeated surgeries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terest in developing medical treatment as an adjunct to surgery</a:t>
            </a: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560" y="609120"/>
            <a:ext cx="8515080" cy="59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ahoma"/>
              </a:rPr>
              <a:t>Pivotal Registration Trial</a:t>
            </a:r>
            <a:br>
              <a:rPr sz="3200"/>
            </a:br>
            <a:r>
              <a:rPr b="1" lang="en-US" sz="2400" spc="-1" strike="noStrike">
                <a:solidFill>
                  <a:srgbClr val="0033cc"/>
                </a:solidFill>
                <a:latin typeface="Tahoma"/>
              </a:rPr>
              <a:t>Basis for Approval</a:t>
            </a:r>
            <a:endParaRPr b="1" lang="en-US" sz="24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4" name=""/>
          <p:cNvSpPr/>
          <p:nvPr/>
        </p:nvSpPr>
        <p:spPr>
          <a:xfrm>
            <a:off x="711360" y="1473120"/>
            <a:ext cx="80517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escription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uble-blind, placebo-controlled study of celecoxib in patients with FA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ite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.T. M.D. Anderson, St. Mark’s (UK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eatment Groups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laceb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elecoxib (100, 400 mg po B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rimary Endpoint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ercent change in the number of colorectal adeno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uration of Therapy: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 month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00400" indent="-32004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200" y="457200"/>
            <a:ext cx="7905960" cy="59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ahoma"/>
              </a:rPr>
              <a:t>Results of Pivotal Trial</a:t>
            </a:r>
            <a:endParaRPr b="1" lang="en-US" sz="2800" spc="-1" strike="noStrike">
              <a:solidFill>
                <a:srgbClr val="0033cc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6483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rgest prospective,  randomized trial conducted in FAP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2 years to complete 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83 patients</a:t>
            </a:r>
            <a:endParaRPr b="1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fficac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28% reduction in mean polyp number compared to baseline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Secondary endpoints confirmatory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afety: 400 mg BID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  <a:ea typeface="Times New Roman"/>
              </a:rPr>
              <a:t>Well tolerated</a:t>
            </a:r>
            <a:endParaRPr b="1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257800" y="1600200"/>
            <a:ext cx="3743280" cy="4056120"/>
            <a:chOff x="5257800" y="1600200"/>
            <a:chExt cx="3743280" cy="4056120"/>
          </a:xfrm>
        </p:grpSpPr>
        <p:sp>
          <p:nvSpPr>
            <p:cNvPr id="78" name=""/>
            <p:cNvSpPr/>
            <p:nvPr/>
          </p:nvSpPr>
          <p:spPr>
            <a:xfrm rot="16200000">
              <a:off x="4194720" y="3415680"/>
              <a:ext cx="2400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ercent Change from Baseli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57720" y="2133720"/>
              <a:ext cx="72144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lacebo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15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887880" y="2133720"/>
              <a:ext cx="9486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100 mg BID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2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42080" y="2133720"/>
              <a:ext cx="1359000" cy="4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400 mg BID**</a:t>
              </a:r>
              <a:br>
                <a:rPr sz="1100"/>
              </a:b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N=30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869080" y="371016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2600">
              <a:solidFill>
                <a:srgbClr val="6699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15160" y="4849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915160" y="4564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915160" y="42800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915160" y="39924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15160" y="3710160"/>
              <a:ext cx="286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915160" y="342108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15160" y="313524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15160" y="2851200"/>
              <a:ext cx="2860560" cy="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15160" y="2563920"/>
              <a:ext cx="2860560" cy="0"/>
            </a:xfrm>
            <a:prstGeom prst="line">
              <a:avLst/>
            </a:prstGeom>
            <a:ln w="1260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915160" y="2563920"/>
              <a:ext cx="2860560" cy="2287440"/>
            </a:xfrm>
            <a:custGeom>
              <a:avLst/>
              <a:gdLst/>
              <a:ahLst/>
              <a:rect l="l" t="t" r="r" b="b"/>
              <a:pathLst>
                <a:path w="3381" h="2402">
                  <a:moveTo>
                    <a:pt x="0" y="0"/>
                  </a:moveTo>
                  <a:lnTo>
                    <a:pt x="3380" y="0"/>
                  </a:lnTo>
                  <a:lnTo>
                    <a:pt x="3380" y="2401"/>
                  </a:lnTo>
                  <a:lnTo>
                    <a:pt x="0" y="2401"/>
                  </a:lnTo>
                  <a:lnTo>
                    <a:pt x="0" y="0"/>
                  </a:lnTo>
                </a:path>
              </a:pathLst>
            </a:custGeom>
            <a:noFill/>
            <a:ln cap="rnd"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869080" y="484992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69080" y="4564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869080" y="42800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9080" y="39924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9080" y="342108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9080" y="313524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9080" y="28512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869080" y="2568600"/>
              <a:ext cx="921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04040" y="4349880"/>
              <a:ext cx="8100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465960" y="3968640"/>
              <a:ext cx="8244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399360" y="39225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342120" y="3889440"/>
              <a:ext cx="81000" cy="460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99360" y="382572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73880" y="3792600"/>
              <a:ext cx="82440" cy="47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399360" y="375120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51400" y="3686040"/>
              <a:ext cx="810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32160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394320" y="3686040"/>
              <a:ext cx="8280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65960" y="3686040"/>
              <a:ext cx="824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534000" y="3686040"/>
              <a:ext cx="84240" cy="44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99360" y="3500280"/>
              <a:ext cx="80640" cy="43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99360" y="3443400"/>
              <a:ext cx="82440" cy="48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240" bIns="-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404040" y="3398760"/>
              <a:ext cx="82440" cy="47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51560" y="482760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351560" y="457848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51560" y="4540320"/>
              <a:ext cx="8100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51560" y="4317840"/>
              <a:ext cx="8100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310520" y="425772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402680" y="4260960"/>
              <a:ext cx="806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310520" y="420840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402680" y="421488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351560" y="416088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340760" y="4010040"/>
              <a:ext cx="792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386480" y="3965400"/>
              <a:ext cx="7956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296120" y="3965400"/>
              <a:ext cx="8244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346880" y="3925800"/>
              <a:ext cx="7956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351560" y="3860640"/>
              <a:ext cx="810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305840" y="3827520"/>
              <a:ext cx="806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391520" y="3832200"/>
              <a:ext cx="8100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296120" y="3765600"/>
              <a:ext cx="85680" cy="442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96200" y="3768840"/>
              <a:ext cx="8244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135920" y="3686040"/>
              <a:ext cx="83880" cy="446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104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281720" y="3686040"/>
              <a:ext cx="828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35336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24640" y="3686040"/>
              <a:ext cx="842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9628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569360" y="3686040"/>
              <a:ext cx="7920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39200" y="3686040"/>
              <a:ext cx="8244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356600" y="3616200"/>
              <a:ext cx="83880" cy="478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58040" y="3575160"/>
              <a:ext cx="8244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356600" y="3355920"/>
              <a:ext cx="83880" cy="4464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56600" y="31114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356600" y="3071880"/>
              <a:ext cx="83880" cy="4608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356600" y="2789280"/>
              <a:ext cx="83880" cy="47520"/>
            </a:xfrm>
            <a:prstGeom prst="ellipse">
              <a:avLst/>
            </a:prstGeom>
            <a:solidFill>
              <a:srgbClr val="99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153280" y="482760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53280" y="4683240"/>
              <a:ext cx="7956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164440" y="45180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8164440" y="4452840"/>
              <a:ext cx="8100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202600" y="4400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21600" y="4398840"/>
              <a:ext cx="824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8126280" y="43419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8202600" y="434808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8121600" y="42958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8215200" y="425772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07280" y="429588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8124840" y="4200480"/>
              <a:ext cx="8568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02600" y="420840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159760" y="416088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8159760" y="412416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72360" y="4003560"/>
              <a:ext cx="828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134200" y="396864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223120" y="396864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223120" y="393372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131320" y="3936960"/>
              <a:ext cx="8388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163000" y="3863880"/>
              <a:ext cx="8100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159760" y="3803760"/>
              <a:ext cx="8424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01036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808200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5328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217000" y="3683160"/>
              <a:ext cx="83880" cy="44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480" bIns="-15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285040" y="3686040"/>
              <a:ext cx="81000" cy="44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159760" y="3610080"/>
              <a:ext cx="84240" cy="460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156520" y="3398760"/>
              <a:ext cx="84240" cy="478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600" bIns="-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552640" y="476424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552640" y="44766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552640" y="419400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552640" y="3906720"/>
              <a:ext cx="3679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-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39760" y="3622680"/>
              <a:ext cx="255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585760" y="33368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585760" y="30481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585760" y="276552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585760" y="2478240"/>
              <a:ext cx="3250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80200" y="3890880"/>
              <a:ext cx="457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V="1">
              <a:off x="7985160" y="4137120"/>
              <a:ext cx="406440" cy="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651720" y="3691080"/>
              <a:ext cx="51732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4.5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20840" y="3760920"/>
              <a:ext cx="58140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 11.9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93760" y="4005360"/>
              <a:ext cx="453240" cy="22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-28%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216480" y="3776760"/>
              <a:ext cx="455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26280" y="4246560"/>
              <a:ext cx="81000" cy="47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2960" bIns="-12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013440" y="5105520"/>
              <a:ext cx="182520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 77 with colorectal diseas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** p = 0.003 versus placeb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0520" y="1600200"/>
              <a:ext cx="281988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Mean Percent Change in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Number of Colorectal Polyps*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0T18:52:54Z</dcterms:created>
  <dc:creator>Daniel R Vlock</dc:creator>
  <dc:description/>
  <dc:language>en-US</dc:language>
  <cp:lastModifiedBy>FDA.CDER</cp:lastModifiedBy>
  <cp:lastPrinted>2003-02-25T16:15:26Z</cp:lastPrinted>
  <dcterms:modified xsi:type="dcterms:W3CDTF">2003-03-21T14:14:04Z</dcterms:modified>
  <cp:revision>263</cp:revision>
  <dc:subject/>
  <dc:title>PowerPoint Presentation</dc:title>
</cp:coreProperties>
</file>