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67108"/>
        <c:axId val="98410299"/>
      </c:barChart>
      <c:catAx>
        <c:axId val="33867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10299"/>
        <c:crosses val="autoZero"/>
        <c:auto val="1"/>
        <c:lblAlgn val="ctr"/>
        <c:lblOffset val="100"/>
        <c:noMultiLvlLbl val="0"/>
      </c:catAx>
      <c:valAx>
        <c:axId val="98410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67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493-DFCD-4599-9B14-743C3B0D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0BA-F17E-4236-870E-891B235F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B52-68E5-4768-BB8A-2D33B208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6F1-10C0-4278-8F55-2F768A88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67C-E965-45B9-80EE-5359B6E5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036-CC98-4373-803C-F47901A0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2E2-DD13-4FAD-B227-E7DF09B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076-47AB-42A1-A10F-8CBF3DA0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3E1-EEA0-4D85-AE4A-4B8B5FF7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DC7-0522-420B-A829-B7944629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D7D-50E4-4C68-9233-DDBB6C8C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F0B-792C-4A0C-9B8D-9B9F049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B7B9E-1A53-4ED5-BA39-7D335314C9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