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12665"/>
        <c:axId val="71395671"/>
      </c:barChart>
      <c:catAx>
        <c:axId val="12612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95671"/>
        <c:crosses val="autoZero"/>
        <c:auto val="1"/>
        <c:lblAlgn val="ctr"/>
        <c:lblOffset val="100"/>
        <c:noMultiLvlLbl val="0"/>
      </c:catAx>
      <c:valAx>
        <c:axId val="71395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2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B76-F0F5-4C72-AAE0-FA5DADD7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023-F2E0-4866-A903-B2CFC699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36B-1FAE-4287-8683-C429AFDB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434-8CEF-422B-892D-37F6C01E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E5F-F008-4F0A-820F-17D40602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856-9316-4168-A051-C4615AB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8CC-8531-4479-ABA8-3CDE443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01C-0B43-4179-B363-B2085ADF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D13-62B3-4653-AADA-379CE22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75F-1834-4442-9B09-9DE0283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5F1-F560-4992-8A05-F3B00A6C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EDE-1DF7-4252-B76E-E2E8380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D64E9-FFA6-4483-A57C-89E19A807A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