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56180"/>
        <c:axId val="75608768"/>
      </c:barChart>
      <c:catAx>
        <c:axId val="43956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08768"/>
        <c:crosses val="autoZero"/>
        <c:auto val="1"/>
        <c:lblAlgn val="ctr"/>
        <c:lblOffset val="100"/>
        <c:noMultiLvlLbl val="0"/>
      </c:catAx>
      <c:valAx>
        <c:axId val="75608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56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997-64C0-4E89-A5B7-CB426049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912-FF52-4618-BCCF-7E966BD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710-0F74-4AF0-B4E3-9225DADB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523-5829-4C05-9D29-3C63EFB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680-520C-48BC-8601-4F946F0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E61-FF50-453C-BD41-31B3206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78B-A54E-46EC-980A-11B9E21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D49-E129-413C-91DF-12D33C0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724-47B2-4D59-8B61-7329223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F0D-61C1-49AB-AD61-1D8E824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C5D-8A9C-4BF7-AFB6-6FA1263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200-00DB-4FBC-BFDE-DA37443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50D7-F04B-46F0-A646-BF4466AE8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