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11017"/>
        <c:axId val="21504261"/>
      </c:barChart>
      <c:catAx>
        <c:axId val="97311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04261"/>
        <c:crosses val="autoZero"/>
        <c:auto val="1"/>
        <c:lblAlgn val="ctr"/>
        <c:lblOffset val="100"/>
        <c:noMultiLvlLbl val="0"/>
      </c:catAx>
      <c:valAx>
        <c:axId val="21504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11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18C-2B11-4398-9080-899CB9F0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8C1-6A40-4129-A5AF-645B420A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E144-613E-4496-A98C-1960E0D6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DC9-15CA-4DF4-B57D-A2A2CC0B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40C-35E8-4131-9753-74EB0826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614-3419-4B87-925B-313EF7A0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CC1-2D34-4BF0-A42B-E8CAC2F9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124-53D8-4869-BE2D-44C0372B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1D4-C7BA-489D-A59F-D7056B33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B80E-0995-4B97-BAD0-164ADEBA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2F9-0471-454E-8A00-B8283BE2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6E4-2CA5-4564-9C68-BF448704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71354-0521-40F0-AD93-DC9AFB480B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