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216"/>
        <c:axId val="18520289"/>
      </c:barChart>
      <c:catAx>
        <c:axId val="102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0289"/>
        <c:crosses val="autoZero"/>
        <c:auto val="1"/>
        <c:lblAlgn val="ctr"/>
        <c:lblOffset val="100"/>
        <c:noMultiLvlLbl val="0"/>
      </c:catAx>
      <c:valAx>
        <c:axId val="18520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DBE-112E-436D-AA37-C9446C74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D50-CF63-4391-867B-89806769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E55-3EA9-423A-8E5E-95EAB4CC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45A-4795-4138-BD7A-A2E2A036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D2C-F4AE-47B1-BF98-7E176A61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1C8-0B81-4087-9D1E-551655AE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A2D-12D8-428D-BBB6-50AF19B8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6F5-B1C3-4D37-8DA3-1E08BA7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379-2803-4FA3-B367-CDAE70C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4D7-E358-41A4-A8C5-FBDD28E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E97-E8B3-4770-8055-2FFC58A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A5E-1E1F-42F7-8E52-2F7F2B5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17FBC-3083-4175-A99C-49961D685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