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64098"/>
        <c:axId val="94496546"/>
      </c:barChart>
      <c:catAx>
        <c:axId val="30064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96546"/>
        <c:crosses val="autoZero"/>
        <c:auto val="1"/>
        <c:lblAlgn val="ctr"/>
        <c:lblOffset val="100"/>
        <c:noMultiLvlLbl val="0"/>
      </c:catAx>
      <c:valAx>
        <c:axId val="94496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64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778-E53C-4A86-81F3-F9F9413E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718-4B9A-4788-8FE2-04FE0E33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E92-EEA5-45BA-8019-403BF701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79E-4DF2-45F5-9FF4-59EBFB90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9FB7-A0F3-4C90-B762-1C4176EA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B4D-A94A-461B-8D39-2FDFEB6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AF1-C8A4-4571-91CD-50F19DC9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90C-B016-49CE-BBBD-C3312C94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7F9-CFA4-410C-9D81-0549F6B3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C72-2056-4695-BCB0-702E8F42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9C7-5905-43CE-BDE7-43FA326C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F75-E716-4865-8543-1BBC4FD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2EDC1-4D7D-48B8-9CA1-0249BBFD2C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