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8453"/>
        <c:axId val="65702014"/>
      </c:barChart>
      <c:catAx>
        <c:axId val="62388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02014"/>
        <c:crosses val="autoZero"/>
        <c:auto val="1"/>
        <c:lblAlgn val="ctr"/>
        <c:lblOffset val="100"/>
        <c:noMultiLvlLbl val="0"/>
      </c:catAx>
      <c:valAx>
        <c:axId val="6570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8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E500-5286-493B-9B5A-E939650C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A4A-A7F4-4932-8152-A79A38E7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470-8BD5-4A62-988E-74475884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608-1B96-45C9-AEFB-FBE77BC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D5C-6858-489F-9737-C21F6409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6F8-40A0-4A31-BDAB-AADBB37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DF6-D7A4-4CFA-9803-D49885FD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8ED-C39A-4AB7-AE3A-CFB5829F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7AB-3B57-4038-BC3E-054CE21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07F-48E4-4913-8260-0A9FC57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4E7-09E0-4D35-998E-BDD4C0C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786-FF29-4BDF-8970-A6D7884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E4AC5-9FAE-4C4B-B3F2-DBF630B4CD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