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36334"/>
        <c:axId val="44661366"/>
      </c:barChart>
      <c:catAx>
        <c:axId val="40836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61366"/>
        <c:crosses val="autoZero"/>
        <c:auto val="1"/>
        <c:lblAlgn val="ctr"/>
        <c:lblOffset val="100"/>
        <c:noMultiLvlLbl val="0"/>
      </c:catAx>
      <c:valAx>
        <c:axId val="44661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36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25D-D826-4985-884A-FF27AFA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F6D-D70F-49EE-81EB-6A4C3697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B47-D011-4BFE-A0FB-A2688CC6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484-AB4D-447E-B7A6-2DF5310D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119-6370-416D-A4C3-8CD056A4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26F-FA2D-4CBE-8EE1-60806309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BCD-2382-441A-BB08-A38FCD1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F6D-1EA2-4DDB-8DA8-A033F44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4B6-686F-4F4D-B82A-7666B9BB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E67-09F2-4784-A29B-D47791E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B16-4CCB-4EEE-BC3F-5F4C508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51F-6F1F-42DB-B4F8-3E0D617F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3DEF-7296-4ABB-B975-FF931C909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