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68631"/>
        <c:axId val="51331072"/>
      </c:barChart>
      <c:catAx>
        <c:axId val="16068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31072"/>
        <c:crosses val="autoZero"/>
        <c:auto val="1"/>
        <c:lblAlgn val="ctr"/>
        <c:lblOffset val="100"/>
        <c:noMultiLvlLbl val="0"/>
      </c:catAx>
      <c:valAx>
        <c:axId val="51331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68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8C4-B576-457D-A146-36737424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2CA-CE86-4DD9-B116-5D84A5A5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181-D040-4C1B-8CA9-98EBB3D0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E08-99E2-4B97-81D3-5CD75BEB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EC3-7601-447B-AA40-583EEFE5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4FC-A77F-40C9-89CF-96B8726E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77F-6E65-45C2-9321-A7AE1E13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7FC-E1CE-4759-98FC-E8D20846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D03-2ADC-4157-B8C3-920C7542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AC8-ADE2-45A6-A616-530CB8A6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32A-35CC-404B-8531-794EC228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D0F-FD7E-4731-BFF8-0BEB7079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00979-B0E4-47E0-8CC1-03E07297D6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