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548765"/>
        <c:axId val="64535502"/>
      </c:barChart>
      <c:catAx>
        <c:axId val="765487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35502"/>
        <c:crosses val="autoZero"/>
        <c:auto val="1"/>
        <c:lblAlgn val="ctr"/>
        <c:lblOffset val="100"/>
        <c:noMultiLvlLbl val="0"/>
      </c:catAx>
      <c:valAx>
        <c:axId val="645355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487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371C-CE0F-411C-A54D-2EB3D8BB2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DA5F-F287-4E57-86E9-FD868C6BB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E808-B7BC-4FA2-A963-48A309843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3A6B-5678-43BE-9E80-830F46E09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9107-A3AA-49FC-8F42-55497027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7159-FF6B-46DC-84C0-11729E763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6054-9254-474B-8968-C23E3D7A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CE5E-9DD1-4D5F-9B2E-54449EEC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FB8A-1B8B-4E54-B955-ED0A108E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3309-A2E0-443E-95AA-E9C5291D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DBC3-1905-4773-93C2-4DA10ADA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6A7D-715F-45AE-AA50-74BB576E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ED506-DD08-41F9-9474-9E220D8196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