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67297"/>
        <c:axId val="27296818"/>
      </c:barChart>
      <c:catAx>
        <c:axId val="61667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96818"/>
        <c:crosses val="autoZero"/>
        <c:auto val="1"/>
        <c:lblAlgn val="ctr"/>
        <c:lblOffset val="100"/>
        <c:noMultiLvlLbl val="0"/>
      </c:catAx>
      <c:valAx>
        <c:axId val="27296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67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ABE-3897-4E73-9A8E-5A968CFC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AD9-474D-424D-8612-00A2197E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548-7AFC-4C11-BC38-93A83CC4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4D5-DD3F-4920-BB83-31518CF3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6D1-3437-474F-BAD5-749314C8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502-B142-421C-BE83-BA38EB44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9CC-45B0-4359-B9A2-DE0FF54F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1CA-2B0E-47AA-8886-71A51299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C73-EA31-4A1A-A7E5-786E9800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933-2D28-4312-A8D9-074935F3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BF4-6DBE-4447-9AFC-A98A7EFA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80A-2430-46FD-8D4F-0CD21B23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20E0B-224B-4E1A-BD81-F3F906E179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