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13610"/>
        <c:axId val="49837328"/>
      </c:barChart>
      <c:catAx>
        <c:axId val="56913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7328"/>
        <c:crosses val="autoZero"/>
        <c:auto val="1"/>
        <c:lblAlgn val="ctr"/>
        <c:lblOffset val="100"/>
        <c:noMultiLvlLbl val="0"/>
      </c:catAx>
      <c:valAx>
        <c:axId val="49837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13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C28-E42D-4563-A47E-1C963872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C56-B569-470A-99A6-54170B97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341-65F9-46FA-9981-03E6F39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AF9-CD76-4A3F-970A-63ED8DDD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EBF-7B35-4413-9FDF-D95077B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7F8-4BA1-40BA-809F-C86FC765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5C3-9353-494C-BB34-EC30227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62E-A10C-4A9D-BFA5-903E4AB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68E-E818-42B3-80ED-91C67CD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543-F436-43CD-8B0B-E5379C4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414-2870-4476-8DB7-534E3D9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05D-1236-4369-B0EF-A321C43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6342-9ADE-4A81-B78D-9B89649F9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