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40342"/>
        <c:axId val="69164564"/>
      </c:barChart>
      <c:catAx>
        <c:axId val="61640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64564"/>
        <c:crosses val="autoZero"/>
        <c:auto val="1"/>
        <c:lblAlgn val="ctr"/>
        <c:lblOffset val="100"/>
        <c:noMultiLvlLbl val="0"/>
      </c:catAx>
      <c:valAx>
        <c:axId val="69164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40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08F-AB75-45D2-AE43-EFBFE8DD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204-BF5F-41B6-83A1-8F295593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791-A62D-4EA3-8979-AD6DEB2C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3F5-5850-4590-BD03-B467521B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B2C-8D19-4B6B-8FA8-25EF8652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521-071A-4ED5-AA58-18FD31B3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B54-649C-4C99-B4C3-DF4B072B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952-1C9A-44A7-834D-46E9023B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2CB-D21D-4A4D-A77E-FFFA6CB8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786-CB13-4352-966B-6017AF9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A21-5970-4A8F-A15B-FDD80903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CDA-3B09-42DC-BE6F-56D1945B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798D2-B69F-41D3-AFFE-F5DD9B26C7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