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55711"/>
        <c:axId val="30592887"/>
      </c:barChart>
      <c:catAx>
        <c:axId val="99155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92887"/>
        <c:crosses val="autoZero"/>
        <c:auto val="1"/>
        <c:lblAlgn val="ctr"/>
        <c:lblOffset val="100"/>
        <c:noMultiLvlLbl val="0"/>
      </c:catAx>
      <c:valAx>
        <c:axId val="30592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55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353-3083-44EB-B231-8D5900EE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5BB-0911-48E1-ADB7-B6E8083A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925-468F-4C44-8ED1-9F288C2E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0FC-7C5F-4287-9E34-20781AB3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52F-8EC3-426F-A6EC-FCF10F64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166-0632-41F8-B5D1-30966053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672-F674-40FD-908F-6C045618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2D7-8000-431B-966B-0B2F0B21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E41-0646-49DA-9A4B-F6D1888C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A07-5E72-4BB2-B616-FDFC2301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D42-74DE-498E-BD5E-D87EFE1A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6F5-0259-4A1C-90D4-043C13EB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E7490-5E8A-4DCE-9D44-3B7642116D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