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49701"/>
        <c:axId val="28602351"/>
      </c:barChart>
      <c:catAx>
        <c:axId val="70749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02351"/>
        <c:crosses val="autoZero"/>
        <c:auto val="1"/>
        <c:lblAlgn val="ctr"/>
        <c:lblOffset val="100"/>
        <c:noMultiLvlLbl val="0"/>
      </c:catAx>
      <c:valAx>
        <c:axId val="28602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9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5CF-F41E-4628-BEEC-0D56823E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756-A03F-46CF-AC67-1C53A112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C60-D0E0-4179-AF9F-746B6FC5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EFA-A37D-4BA2-975E-21842525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3C3-FE1C-4EE6-9692-D8426477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16F-0566-44D8-B99C-7CACA1EA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4B3-EEFB-4C88-ACF8-1E2BA83C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CD9-2B4F-43A7-9DF8-6A68F1A2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FED-C3AA-4A28-A099-C1DB6FE1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4BD-A44E-4C81-8546-CC07137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193-414C-4314-BE36-9D986D8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E55-4FE9-4666-8B1B-DBFFE9B7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1B591-7A03-454B-A3F9-84F4B28F1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