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90498"/>
        <c:axId val="51376252"/>
      </c:barChart>
      <c:catAx>
        <c:axId val="931904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76252"/>
        <c:crosses val="autoZero"/>
        <c:auto val="1"/>
        <c:lblAlgn val="ctr"/>
        <c:lblOffset val="100"/>
        <c:noMultiLvlLbl val="0"/>
      </c:catAx>
      <c:valAx>
        <c:axId val="51376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904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D7C-8EB2-4C9A-88A4-A0260A95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4EEA-7D6E-486B-BA1D-60F22D0B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3BAA-D896-4FCF-8F8B-B33AA130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75F-83D4-4594-8F25-787C9BDB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A18-6A1E-40D4-9901-152B909F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994-5900-4787-8AAE-AB55CFB5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37E-25B0-4D99-B8C4-B8A8C1AD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81D-D63B-49CF-A872-07C8042B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772-7276-4BC4-A9D2-0D9FB32C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D86-0AC7-46AD-907C-24C80210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C83-A05C-4748-A7B1-E6F4B144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789-F67A-4E80-8663-3D5A7A10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827B0-F914-4D44-8A51-9A60549394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